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2AD2D-4B76-494E-B43D-385B8322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C32BE-4FA7-43C2-9008-BC6912E3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8503E-C714-42EC-BF64-766CCA15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F410-E902-466D-A985-B34D172E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F620-D61D-4FF5-A654-314821A8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C9BD-9147-4FE4-A2A5-13226BB0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039E-0160-4232-90BF-B80B93B9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84D6-40E1-4E0D-BF47-6774B733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BFD4-B25E-4722-AD4E-66063971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3426-9358-4AC6-A5FD-0B37C281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B944-4650-44BD-822F-E784E32E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8AC73-3E2E-4DDE-89CD-B9292FDD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7221-DF66-4C21-96A5-56E08F3A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57E4-1FF2-47E7-B026-33A1A544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B12E-2F80-43E8-9293-B16DF779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1BD8-4213-45E8-9510-60A7DFBE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BAA8-77C1-4FA0-BE52-7EE7CF56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789AE-1DDA-45A5-B858-D21313C2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562F6-6881-4F91-BA1F-ABE45EF4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01F7D-2C0E-4898-943B-38337C37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6C66C-78AC-4500-AAD7-AB7BA3F4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FF9BF-D049-40C5-9A22-5F2DE6B7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3940F-8AF8-4E65-8ADF-9C43CEB0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E8C1F-5BD1-4303-95E1-D475EA2B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ACC8-F439-4086-9BD5-866DD8900FD1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8598-5A6A-4159-A823-13F0E56F3210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t.wikipedia.org/wiki/Ouro" TargetMode="External"/><Relationship Id="rId2" Type="http://schemas.openxmlformats.org/officeDocument/2006/relationships/hyperlink" Target="http://pt.wikipedia.org/wiki/Bronze" TargetMode="External"/><Relationship Id="rId3" Type="http://schemas.openxmlformats.org/officeDocument/2006/relationships/hyperlink" Target="http://pt.wikipedia.org/wiki/Marfim" TargetMode="External"/><Relationship Id="rId4" Type="http://schemas.openxmlformats.org/officeDocument/2006/relationships/hyperlink" Target="http://pt.wikipedia.org/wiki/Magia" TargetMode="External"/><Relationship Id="rId5" Type="http://schemas.openxmlformats.org/officeDocument/2006/relationships/hyperlink" Target="http://pt.wikipedia.org/wiki/M&#225;scara" TargetMode="External"/><Relationship Id="rId6" Type="http://schemas.openxmlformats.org/officeDocument/2006/relationships/hyperlink" Target="http://pt.wikipedia.org/wiki/Misticismo" TargetMode="External"/><Relationship Id="rId7" Type="http://schemas.openxmlformats.org/officeDocument/2006/relationships/hyperlink" Target="http://pt.wikipedia.org/wiki/Ritual" TargetMode="External"/><Relationship Id="rId8" Type="http://schemas.openxmlformats.org/officeDocument/2006/relationships/hyperlink" Target="http://pt.wikipedia.org/wiki/Funeral" TargetMode="External"/><Relationship Id="rId9" Type="http://schemas.openxmlformats.org/officeDocument/2006/relationships/hyperlink" Target="http://pt.wikipedia.org/wiki/Argila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Consciência Negra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balho de Histó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tribuição Cultural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O Dia da Consciência Negra é celebrado em 20 de Novembro no Brasil e é dedicado à reflexão sobre a inserção do negro na sociedade brasileir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A data foi escolhida por coincidir com o dia da morte de Zumbi dos Palmares, em 1695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o Dia da Consciência Negra procura ser uma data para se lembrar a resistência do negro à escravidão de forma geral, desde o primeiro transporte forçado de africanos para o solo brasileir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Algumas entidades como o Movimento Negro (o maior do gênero no país) organizam palestras e eventos educativos, visando principalmente crianças negras. Procura-se evitar o desenvolvimento do auto-preconceito, ou seja,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da inferiorização perante a sociedad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-461808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Religião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 índio e o negro,obrigados à aceitar a religião dos senhores,continuavam a crer nos seu Deuses e,os cultuavam,na clandestinidade.Descobertos,eram castigados severamente,muitos morreram,acusados de mandingas contra a Casa Gran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Lenda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 Batalha contra a Morte; Quem perde o corpo é a língua ;O homem-leão e o gado; A menina e o barril; O demônio que engolia vidas;Kigbo e os espíritos do mato; O homem que carrega a morte nas costas; A Viúva Velha; lendas européias como: Vikings, Celtas, Russas, Japones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Utensílio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escultura foi uma forma de arte muito utilizada pelos artistas africanos usando-se o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1"/>
              </a:rPr>
              <a:t>our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,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2"/>
              </a:rPr>
              <a:t>bronz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e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3"/>
              </a:rPr>
              <a:t>marfim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como matéria prima. Representando um disfarce para a incorporação dos espíritos e a possibilidade de adquirir forças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4"/>
              </a:rPr>
              <a:t>mágica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, as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5"/>
              </a:rPr>
              <a:t>máscara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têm um significado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6"/>
              </a:rPr>
              <a:t>místic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e importante na arte africana sendo usadas nos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7"/>
              </a:rPr>
              <a:t>rituai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e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8"/>
              </a:rPr>
              <a:t>funerai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. As máscaras são confeccionadas em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9"/>
              </a:rPr>
              <a:t>barr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, marfim, metais, mas o material mais utilizado é a madeira. Para estabelecer a purificação e a ligação com a entidade sagrada, são modeladas em segredo na selva. Visitando os museus da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Europa Ocidenta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é possível conhecer o maior acervo da arte antiga africana no mund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Hábitos Culinário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o se sabe, o continente africano é habitado por uma vasta gama de etnias e, portanto, de culturas, as quais, de norte a sul, são marcadas por suas especificidades. A diversidade cultural existente na África reflete-se também nos hábitos alimentares dos africanos e na preparação dos alimentos, ou seja, na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ulinária africana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dicionalmente, esta combina as frutas disponíveis nas localidades, grãos, vegetais, leite e carne. Porém, em algumas regiões do continente, o alimento tradicional predominante deriva do leite, como a coalhada e o soro. Alguns alimentos como o milho, a mandioca e a abóbora, originários da América, foram introduzidos na África pelos europeus, ao longo do século XVI. Lembramos também que as influências das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ulinárias árab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asiática e européia se fizeram sentir ao longo da história do continent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Nomes: Victor e Eduardo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5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Série: 7 Ano “B”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5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Nrs°: 07 e 24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7:04:32Z</dcterms:created>
  <dc:creator>SEDMS</dc:creator>
  <dc:description/>
  <dc:language>en-US</dc:language>
  <cp:lastModifiedBy>administradorr</cp:lastModifiedBy>
  <dcterms:modified xsi:type="dcterms:W3CDTF">2010-11-09T17:37:28Z</dcterms:modified>
  <cp:revision>2</cp:revision>
  <dc:subject/>
  <dc:title>Consciência Negra</dc:title>
</cp:coreProperties>
</file>